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11381"/>
        <c:axId val="24250418"/>
      </c:barChart>
      <c:catAx>
        <c:axId val="93911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50418"/>
        <c:crosses val="autoZero"/>
        <c:auto val="1"/>
        <c:lblAlgn val="ctr"/>
        <c:lblOffset val="100"/>
        <c:noMultiLvlLbl val="0"/>
      </c:catAx>
      <c:valAx>
        <c:axId val="24250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11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9E4-EF04-4DB6-BE8A-37A75679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6F6-FCAB-47E7-AB3A-84F7B161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7DD-497E-4F89-BE2B-501BC4EE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FF0-657E-429C-A291-9888B2CA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EFD-8622-415D-B8B4-6280EE73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9CF-258F-4358-A888-D29F2C22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01E-0468-4241-90CE-D740DDE8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B3B-F0B2-4C30-BA9D-00DE4FFB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8F9-F0E0-4433-B32B-A935DECF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840-369B-4307-B301-70B30EC1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0511-91B1-4775-AECF-EDEDBFE4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787-5206-46A9-8BF5-5BBE8CD6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8AD3F-33BC-4789-8F79-B8E9229CEC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